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24e"/>
                </a:solidFill>
                <a:latin typeface="Trebuchet MS"/>
              </a:rPr>
              <a:t>Click to move the slide</a:t>
            </a:r>
            <a:endParaRPr b="1" lang="en-US" sz="2200" spc="-1" strike="noStrike">
              <a:solidFill>
                <a:srgbClr val="00324e"/>
              </a:solidFill>
              <a:latin typeface="Trebuchet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9C99F-3FCE-451B-84D3-AD3FB0F76EF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egnaposto numero diapositiva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8A455-272B-4E35-9B1B-BED0FA8C529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9758-4E65-40F3-A84B-9070A06C0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24e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C370-F285-4234-B988-19D849E86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24e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1BB0-4C61-421D-B988-4BD0161E7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24e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987D-D2CC-48C7-AAAD-D5756AADC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24e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D40A-9DBD-4EF8-9782-FD46615FD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24e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628A-D598-41DD-B0A7-EB6E7B2B5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24e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23B5-12DF-47B6-84DA-58957E5CC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24e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14FB-046A-4FB9-8148-0713D71CE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6FE4-3380-45C9-A9EA-150FCFCF6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24e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5853-191C-4E05-B1FC-6874C22E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24e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B6C9-95FE-4AC2-BCFF-7ED893C3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24e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EFE2-D207-4BDC-8E15-0E17D20A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fondopp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24e"/>
                </a:solidFill>
                <a:latin typeface="Trebuchet MS"/>
              </a:rPr>
              <a:t>Click to edit the title text format</a:t>
            </a:r>
            <a:endParaRPr b="1" lang="en-US" sz="2200" spc="-1" strike="noStrike">
              <a:solidFill>
                <a:srgbClr val="00324e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9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  <a:p>
            <a:pPr lvl="1" marL="743040" indent="-285840">
              <a:buClr>
                <a:srgbClr val="fb7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  <a:p>
            <a:pPr lvl="2" marL="1143000" indent="-228600">
              <a:buClr>
                <a:srgbClr val="fb7b00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  <a:p>
            <a:pPr lvl="3" marL="1600200" indent="-228600">
              <a:buClr>
                <a:srgbClr val="fb7b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  <a:p>
            <a:pPr lvl="4" marL="2057400" indent="-228600">
              <a:buClr>
                <a:srgbClr val="fb7b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  <a:p>
            <a:pPr lvl="5" marL="2057400" indent="-228600"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  <a:p>
            <a:pPr lvl="6" marL="2057400" indent="-228600"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675640" y="6048000"/>
            <a:ext cx="50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8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F7403-A930-418C-8F3F-AC244120400F}" type="slidenum">
              <a:rPr b="1" lang="en-US" sz="1400" spc="-1" strike="noStrike">
                <a:solidFill>
                  <a:srgbClr val="008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0"/>
          <p:cNvSpPr/>
          <p:nvPr/>
        </p:nvSpPr>
        <p:spPr>
          <a:xfrm>
            <a:off x="2411280" y="6438960"/>
            <a:ext cx="45720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Trebuchet MS"/>
              </a:rPr>
              <a:t>arch. Gilberto A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1"/>
          <p:cNvSpPr/>
          <p:nvPr/>
        </p:nvSpPr>
        <p:spPr>
          <a:xfrm>
            <a:off x="28440" y="6453360"/>
            <a:ext cx="20163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Trebuchet MS"/>
              </a:rPr>
              <a:t>Provincia di A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2"/>
          <p:cNvSpPr/>
          <p:nvPr/>
        </p:nvSpPr>
        <p:spPr>
          <a:xfrm>
            <a:off x="7135920" y="6453360"/>
            <a:ext cx="20160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Trebuchet MS"/>
              </a:rPr>
              <a:t>Progetto SOF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3" descr="logo_provincia asti"/>
          <p:cNvPicPr/>
          <p:nvPr/>
        </p:nvPicPr>
        <p:blipFill>
          <a:blip r:embed="rId3"/>
          <a:stretch/>
        </p:blipFill>
        <p:spPr>
          <a:xfrm>
            <a:off x="181080" y="6400800"/>
            <a:ext cx="214200" cy="31284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14" descr="logo sofis"/>
          <p:cNvPicPr/>
          <p:nvPr/>
        </p:nvPicPr>
        <p:blipFill>
          <a:blip r:embed="rId4"/>
          <a:stretch/>
        </p:blipFill>
        <p:spPr>
          <a:xfrm>
            <a:off x="7192800" y="6410160"/>
            <a:ext cx="287640" cy="274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7"/>
          <p:cNvSpPr/>
          <p:nvPr/>
        </p:nvSpPr>
        <p:spPr>
          <a:xfrm>
            <a:off x="250920" y="1197000"/>
            <a:ext cx="864216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Trebuchet MS"/>
              </a:rPr>
              <a:t>IL PROCEDIMENTO SEMPLIFIC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Trebuchet MS"/>
              </a:rPr>
              <a:t>DI AUTORIZZAZIONE PAESAGGIS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Trebuchet MS"/>
              </a:rPr>
              <a:t>PER GLI INTERVENTI DI LIEVE ENTITA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Trebuchet MS"/>
              </a:rPr>
              <a:t>(D.P.R. 9 luglio 2010 n. 139, G.U. n. 199 26 agosto 20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Trebuchet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Trebuchet MS"/>
              </a:rPr>
              <a:t>Regolamento a norma dell'articolo 146 comma 9 D.Lgs. 42/2004 (Codice B.C.A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2411280" y="6357960"/>
            <a:ext cx="4572000" cy="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Trebuchet MS"/>
              </a:rPr>
              <a:t>Asti, 24 settembre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128520" y="6396120"/>
            <a:ext cx="2016360" cy="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Trebuchet MS"/>
              </a:rPr>
              <a:t>Provincia di A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6948360" y="6424560"/>
            <a:ext cx="2016360" cy="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Trebuchet MS"/>
              </a:rPr>
              <a:t>Progetto SOF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2"/>
          <p:cNvSpPr/>
          <p:nvPr/>
        </p:nvSpPr>
        <p:spPr>
          <a:xfrm>
            <a:off x="2340000" y="4869000"/>
            <a:ext cx="4608360" cy="88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Trebuchet MS"/>
              </a:rPr>
              <a:t>arch. Gilberto AL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Trebuchet MS"/>
              </a:rPr>
              <a:t>Responsabile Area Urbanistica – Edilizia – C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497d"/>
                </a:solidFill>
                <a:latin typeface="Trebuchet MS"/>
              </a:rPr>
              <a:t>Comune di Buttigliera Alta -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3"/>
          <p:cNvSpPr/>
          <p:nvPr/>
        </p:nvSpPr>
        <p:spPr>
          <a:xfrm>
            <a:off x="3419640" y="476280"/>
            <a:ext cx="20160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Trebuchet MS"/>
              </a:rPr>
              <a:t>Semi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7" descr="logo sofis"/>
          <p:cNvPicPr/>
          <p:nvPr/>
        </p:nvPicPr>
        <p:blipFill>
          <a:blip r:embed="rId1"/>
          <a:stretch/>
        </p:blipFill>
        <p:spPr>
          <a:xfrm>
            <a:off x="7682040" y="5978520"/>
            <a:ext cx="419040" cy="399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8" descr="logo_provincia asti"/>
          <p:cNvPicPr/>
          <p:nvPr/>
        </p:nvPicPr>
        <p:blipFill>
          <a:blip r:embed="rId2"/>
          <a:stretch/>
        </p:blipFill>
        <p:spPr>
          <a:xfrm>
            <a:off x="900000" y="5950080"/>
            <a:ext cx="3114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"/>
          <p:cNvSpPr/>
          <p:nvPr/>
        </p:nvSpPr>
        <p:spPr>
          <a:xfrm>
            <a:off x="447840" y="909720"/>
            <a:ext cx="815652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(art. 4 c.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3.</a:t>
            </a:r>
            <a:r>
              <a:rPr b="0" lang="en-US" sz="1800" spc="-1" strike="noStrike">
                <a:solidFill>
                  <a:srgbClr val="003366"/>
                </a:solidFill>
                <a:latin typeface="Trebuchet MS"/>
              </a:rPr>
              <a:t> </a:t>
            </a:r>
            <a:r>
              <a:rPr b="1" lang="en-US" sz="1800" spc="-1" strike="noStrike">
                <a:solidFill>
                  <a:srgbClr val="003366"/>
                </a:solidFill>
                <a:latin typeface="Trebuchet MS"/>
              </a:rPr>
              <a:t>verifica la conformità </a:t>
            </a:r>
            <a:r>
              <a:rPr b="0" lang="en-US" sz="1800" spc="-1" strike="noStrike">
                <a:solidFill>
                  <a:srgbClr val="003366"/>
                </a:solidFill>
                <a:latin typeface="Trebuchet MS"/>
              </a:rPr>
              <a:t>dell'intervento progettato alla</a:t>
            </a:r>
            <a:r>
              <a:rPr b="1" lang="en-US" sz="1800" spc="-1" strike="noStrike">
                <a:solidFill>
                  <a:srgbClr val="003366"/>
                </a:solidFill>
                <a:latin typeface="Trebuchet MS"/>
              </a:rPr>
              <a:t> disciplina urbanistica ed ediliz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rebuchet MS"/>
              </a:rPr>
              <a:t>la Regione verifica l'attestazione di conformità urbanistica</a:t>
            </a:r>
            <a:r>
              <a:rPr b="0" lang="en-US" sz="1800" spc="-1" strike="noStrike">
                <a:solidFill>
                  <a:srgbClr val="003366"/>
                </a:solidFill>
                <a:latin typeface="Trebuchet MS"/>
              </a:rPr>
              <a:t> rilasciata dal Comune o </a:t>
            </a:r>
            <a:r>
              <a:rPr b="1" lang="en-US" sz="1800" spc="-1" strike="noStrike">
                <a:solidFill>
                  <a:srgbClr val="003366"/>
                </a:solidFill>
                <a:latin typeface="Trebuchet MS"/>
              </a:rPr>
              <a:t>l'asseverazione</a:t>
            </a:r>
            <a:r>
              <a:rPr b="0" lang="en-US" sz="1800" spc="-1" strike="noStrike">
                <a:solidFill>
                  <a:srgbClr val="003366"/>
                </a:solidFill>
                <a:latin typeface="Trebuchet MS"/>
              </a:rPr>
              <a:t> prescritta in caso di intervento sottoposto a D.I.A., già presentate all'atto della domanda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4.</a:t>
            </a:r>
            <a:r>
              <a:rPr b="0" lang="en-US" sz="1800" spc="-1" strike="noStrike">
                <a:solidFill>
                  <a:srgbClr val="003366"/>
                </a:solidFill>
                <a:latin typeface="Trebuchet MS"/>
              </a:rPr>
              <a:t> in caso di </a:t>
            </a:r>
            <a:r>
              <a:rPr b="1" lang="en-US" sz="1800" spc="-1" strike="noStrike">
                <a:solidFill>
                  <a:srgbClr val="003366"/>
                </a:solidFill>
                <a:latin typeface="Trebuchet MS"/>
              </a:rPr>
              <a:t>non conformità </a:t>
            </a:r>
            <a:r>
              <a:rPr b="0" lang="en-US" sz="1800" spc="-1" strike="noStrike">
                <a:solidFill>
                  <a:srgbClr val="003366"/>
                </a:solidFill>
                <a:latin typeface="Trebuchet MS"/>
              </a:rPr>
              <a:t>dell'intervento progettato </a:t>
            </a:r>
            <a:r>
              <a:rPr b="1" lang="en-US" sz="1800" spc="-1" strike="noStrike">
                <a:solidFill>
                  <a:srgbClr val="003366"/>
                </a:solidFill>
                <a:latin typeface="Trebuchet MS"/>
              </a:rPr>
              <a:t>alla disciplina urbanistica ed edilizia, adotta il provvedimento negativo</a:t>
            </a:r>
            <a:r>
              <a:rPr b="0" lang="en-US" sz="1800" spc="-1" strike="noStrike">
                <a:solidFill>
                  <a:srgbClr val="003366"/>
                </a:solidFill>
                <a:latin typeface="Trebuchet MS"/>
              </a:rPr>
              <a:t> di conclusione anticipata del procedimento (art. 3 c. 2) e </a:t>
            </a:r>
            <a:r>
              <a:rPr b="1" lang="en-US" sz="1800" spc="-1" strike="noStrike">
                <a:solidFill>
                  <a:srgbClr val="003366"/>
                </a:solidFill>
                <a:latin typeface="Trebuchet MS"/>
              </a:rPr>
              <a:t>dichiara l'improcedibilità</a:t>
            </a:r>
            <a:r>
              <a:rPr b="0" lang="en-US" sz="1800" spc="-1" strike="noStrike">
                <a:solidFill>
                  <a:srgbClr val="003366"/>
                </a:solidFill>
                <a:latin typeface="Trebuchet MS"/>
              </a:rPr>
              <a:t> della  domanda di autorizzazione paesaggistica, dandone immediata comunicazione al richied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-42840" y="260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Il procedimento semplificativo di autorizzazione paesaggistica per interventi di lieve entità (5.3/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447840" y="1341360"/>
            <a:ext cx="815652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(art. 4 c. 3)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rebuchet MS"/>
              </a:rPr>
              <a:t>5. 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in caso di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esito positivo 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della verifica di conformità urbanistica  ed edilizia,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 valuta la conformità 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dell'intervento alle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specifiche  prescrizioni 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d'uso contenute nel piano paesaggistico o nella dichiarazione di pubblico interesse o nel provvedimento di   integrazione del vincolo, ovvero la sua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compatibilità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con i valori paesaggist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-42840" y="260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Il procedimento semplificativo di autorizzazione paesaggistica per interventi di lieve entità (6/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3"/>
          <p:cNvSpPr/>
          <p:nvPr/>
        </p:nvSpPr>
        <p:spPr>
          <a:xfrm>
            <a:off x="324000" y="1341360"/>
            <a:ext cx="8496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(art. 3 c. 2 L.R. 32/200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rebuchet MS"/>
              </a:rPr>
              <a:t>6.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il rilascio dell'autorizzazione paesaggistica è delegato ai comuni, che si avvalgono, per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 la valutazione delle istanze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, delle competenze tecnico scientifiche delle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Commissioni Locali per il Paesaggio (C.L.P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(art. 4 c. 1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nel procedimento semplificato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non e' obbligatorio il parere delle C.L.P.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,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salvo quanto sia diversamente previsto dalla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legislazione regionale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, fermo restando il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rispetto del suddetto termine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per la  conclusione del procedimento di cui all'art.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-42840" y="260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Il procedimento semplificativo di autorizzazione paesaggistica per interventi di lieve entità (7/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3"/>
          <p:cNvSpPr/>
          <p:nvPr/>
        </p:nvSpPr>
        <p:spPr>
          <a:xfrm>
            <a:off x="324000" y="1125360"/>
            <a:ext cx="8424720" cy="49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(art. 4 c.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rebuchet MS"/>
              </a:rPr>
              <a:t>7.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nel caso in cui la suddetta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valutazione sia negativa, invia comunicazione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all'interessato ai sensi dell'art. 10-bis L. 241/1990, assegnando un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termine di 10 giorni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, dal ricevimento della stessa, per  la presentazione di eventuali osservazion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La comunicazione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sospende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il termine per la conclusione del  procedime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ove, esaminate le osservazioni, persistano i motivi ostativi   all'accoglimento,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rigetta motivatamente 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la domanda entro i successivi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10 gior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-42840" y="260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Il procedimento semplificativo di autorizzazione paesaggistica per interventi di lieve entità (8/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250920" y="1197000"/>
            <a:ext cx="8713800" cy="51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In relazione ai suddetti disposti, occorre che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la valutazione 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(parere) della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C.L.P.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sia di tip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3366"/>
              </a:buClr>
              <a:buFont typeface="Trebuchet MS"/>
              <a:buChar char="•"/>
              <a:tabLst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favorev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3366"/>
              </a:buClr>
              <a:buFont typeface="Trebuchet MS"/>
              <a:buChar char="•"/>
              <a:tabLst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favorevole condizion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3366"/>
              </a:buClr>
              <a:buFont typeface="Trebuchet MS"/>
              <a:buChar char="•"/>
              <a:tabLst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neg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rebuchet MS"/>
              </a:rPr>
              <a:t>parrebbe che </a:t>
            </a:r>
            <a:r>
              <a:rPr b="1" lang="en-US" sz="1800" spc="-1" strike="noStrike">
                <a:solidFill>
                  <a:srgbClr val="003366"/>
                </a:solidFill>
                <a:latin typeface="Trebuchet MS"/>
              </a:rPr>
              <a:t>non possa essere di tipo sospensivo</a:t>
            </a:r>
            <a:r>
              <a:rPr b="0" lang="en-US" sz="1800" spc="-1" strike="noStrike">
                <a:solidFill>
                  <a:srgbClr val="003366"/>
                </a:solidFill>
                <a:latin typeface="Trebuchet MS"/>
              </a:rPr>
              <a:t>, in quanto ai sensi art. 4 c.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rebuchet MS"/>
              </a:rPr>
              <a:t>- occorre richiedere, ove occorrano, un'unica volta, i documenti e i chiarimenti indispensabili entro il termine di 15 giorni dal ricevimento della richie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rebuchet MS"/>
              </a:rPr>
              <a:t>- il procedimento resta sospeso fino alla ricezione della documentazione integrativa richie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-42840" y="260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Il procedimento semplificativo di autorizzazione paesaggistica per interventi di lieve entità (9/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447840" y="1341360"/>
            <a:ext cx="8156520" cy="49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(art. 4 c.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rebuchet MS"/>
              </a:rPr>
              <a:t>8. 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in caso di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rigetto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della domanda, l'interessato, entro 20 giorni dalla ricezione del provvedimento di rigetto,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può chiedere al soprintendente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, con istanza motivata e corredata della documentazione, di pronunciarsi sulla domanda di autorizzazione paesaggistica semplific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copia dell'istanza e' contestualmente inviata all'amministrazione che ha adottato il provvedimento negativo, la quale, entro 10 giorni dal ricevimento,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può inviare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le proprie deduzioni al soprintendente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-42840" y="260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Il procedimento semplificativo di autorizzazione paesaggistica per interventi di lieve entità (10.1/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3"/>
          <p:cNvSpPr/>
          <p:nvPr/>
        </p:nvSpPr>
        <p:spPr>
          <a:xfrm>
            <a:off x="447840" y="1341360"/>
            <a:ext cx="8372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Ricevuta l'istanza, il soprintendente, entro i successivi 30 giorni,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verifica la conformità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dell'intervento progettato alle prescrizioni d'uso del bene paesaggistico ovvero la sua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compatibilità paesaggistica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e decide in via definitiva,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rilasciando o negando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l'autorizz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Copia del provvedimento e' inviata all'amministrazione che si è pronunciata in senso nega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-42840" y="260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Il procedimento semplificativo di autorizzazione paesaggistica per interventi di lieve entità (10.2/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3"/>
          <p:cNvSpPr/>
          <p:nvPr/>
        </p:nvSpPr>
        <p:spPr>
          <a:xfrm>
            <a:off x="447840" y="1341360"/>
            <a:ext cx="8156520" cy="40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(art. 4 c. 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rebuchet MS"/>
              </a:rPr>
              <a:t>9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. in caso di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valutazione positiva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della conformità ovvero della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compatibilità paesaggistica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dell'intervento,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provvede immediatamente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e, comunque, entro il termine di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30  giorni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dal ricevimento della domanda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a trasmettere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alla soprintendenza, unitamente alla domanda ed alla documentazione in suo possesso, una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motivata proposta di accoglimento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della domanda stes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-42840" y="260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Il procedimento semplificativo di autorizzazione paesaggistica per interventi di lieve entità (11.1/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61880" y="5213520"/>
            <a:ext cx="3895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3"/>
          <p:cNvSpPr/>
          <p:nvPr/>
        </p:nvSpPr>
        <p:spPr>
          <a:xfrm>
            <a:off x="447840" y="1341360"/>
            <a:ext cx="8227800" cy="48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Se anche la valutazione del soprintendente e' positiva, questi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esprime il suo parere vincolante favorevole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entro il termine di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25 giorni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dalla ricezione della domanda, della documentazione e della proposta,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dandone immediata comunicazione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, ove possibile per via telematica, all'amministrazione competente al rilascio dell'autorizz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In caso di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mancata espressione del parere vincolante entro il suddetto termine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, l'amministrazione competente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ne prescinde e rilascia l'autorizzazione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, senza indire la Conferenza di servizi di cui all'art. 146 c. 9 del Cod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-42840" y="260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Il procedimento semplificativo di autorizzazione paesaggistica per interventi di lieve entità (11.2/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3"/>
          <p:cNvSpPr/>
          <p:nvPr/>
        </p:nvSpPr>
        <p:spPr>
          <a:xfrm>
            <a:off x="447840" y="1227240"/>
            <a:ext cx="8156520" cy="53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(art. 4 c. 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3366"/>
              </a:buClr>
              <a:buFont typeface="Trebuchet MS"/>
              <a:buChar char="-"/>
              <a:tabLst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Adotta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il provvedimento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conforme al parere vincolante favorevole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 nei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5 giorni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successivi alla ricezione del parere stesso e ne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da' immediata comunicazione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al richiedente ed alla soprintendenz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Ove ne abbia la competenza, l'amministrazione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rilascia contestualmente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,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se prescritto e ove possibile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, anche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il titolo legittimante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le trasformazioni urbanistiche ed edilizie previste nel proget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L'obbligo di motivazione e' assolto anche mediante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rinvio ed allegazione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del parere della soprintendenz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-42840" y="260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Il procedimento semplificativo di autorizzazione paesaggistica per interventi di lieve entità (12/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447840" y="1341360"/>
            <a:ext cx="8156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(art. 1 c.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Sono assoggettati a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procedimento semplificato 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di autorizzazione paesaggistica gli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interventi di lieve entità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, da realizzarsi su aree o immobili sottoposti alle norme di tutela della parte III del Codice,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sempre che comportino un'alterazione dei luoghi o dell'aspetto esteriore degli edifici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, indicati nell'elenco di cui all'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Allegato 1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-42840" y="260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Il procedimento semplificativo di autorizzazione paesaggistica per interventi di lieve entità (1/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3"/>
          <p:cNvSpPr/>
          <p:nvPr/>
        </p:nvSpPr>
        <p:spPr>
          <a:xfrm>
            <a:off x="447840" y="1227240"/>
            <a:ext cx="8156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(art. 4 c. 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in caso di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valutazione negativa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della proposta ricevuta dall'amministrazione competente al rilascio dell'autorizzazione,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il soprintendente adotta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, entro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25 giorni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dal ricevimento della proposta stessa,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il provvedimento di rigetto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dell'istanza, previa comunicazione all'interessato dei motivi che ostano all'accogli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-42840" y="260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Il procedimento semplificativo di autorizzazione paesaggistica per interventi di lieve entità (13.1/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3"/>
          <p:cNvSpPr/>
          <p:nvPr/>
        </p:nvSpPr>
        <p:spPr>
          <a:xfrm>
            <a:off x="447840" y="1227240"/>
            <a:ext cx="81565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Nel provvedimento il soprintendente espone puntualmente i motivi di rigetto dell'istanza e di non accoglibilità delle osservazioni eventualmente presentate dall'interessa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Il provvedimento di rigetto e' immediatamente comunicato all'amministrazione competente ed all'interessa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In caso di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parere obbligatorio e non vincolante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del soprintendente, ai sensi del comma 10, il provvedimento di rigetto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e' adottato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 dall'amministrazione competente al rilascio dell'autorizzazi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-42840" y="260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Il procedimento semplificativo di autorizzazione paesaggistica per interventi di lieve entità (13.2/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3"/>
          <p:cNvSpPr/>
          <p:nvPr/>
        </p:nvSpPr>
        <p:spPr>
          <a:xfrm>
            <a:off x="468360" y="1341360"/>
            <a:ext cx="8156520" cy="48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(art. 4 c. 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Il parere del soprintendente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è obbligatorio e non vincolante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quando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l'area interessata dall'intervento di lieve entità sia assoggettata a specifiche prescrizioni d'uso del paesaggio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, contenute nella dichiarazione di notevole interesse pubblico, nel piano paesaggistico o negli atti di integrazione del vincolo adottati ai sensi dell'articolo 141-bis del Cod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rebuchet MS"/>
              </a:rPr>
              <a:t>Il </a:t>
            </a:r>
            <a:r>
              <a:rPr b="1" lang="en-US" sz="1800" spc="-1" strike="noStrike">
                <a:solidFill>
                  <a:srgbClr val="003366"/>
                </a:solidFill>
                <a:latin typeface="Trebuchet MS"/>
              </a:rPr>
              <a:t>P.P.R.</a:t>
            </a:r>
            <a:r>
              <a:rPr b="0" lang="en-US" sz="1800" spc="-1" strike="noStrike">
                <a:solidFill>
                  <a:srgbClr val="003366"/>
                </a:solidFill>
                <a:latin typeface="Trebuchet MS"/>
              </a:rPr>
              <a:t> con indirizzi, direttive in caso di varianti e </a:t>
            </a:r>
            <a:r>
              <a:rPr b="1" lang="en-US" sz="1800" spc="-1" strike="noStrike">
                <a:solidFill>
                  <a:srgbClr val="003366"/>
                </a:solidFill>
                <a:latin typeface="Trebuchet MS"/>
              </a:rPr>
              <a:t>prescrizioni “in salvaguardia”</a:t>
            </a:r>
            <a:r>
              <a:rPr b="0" lang="en-US" sz="1800" spc="-1" strike="noStrike">
                <a:solidFill>
                  <a:srgbClr val="003366"/>
                </a:solidFill>
                <a:latin typeface="Trebuchet MS"/>
              </a:rPr>
              <a:t> (</a:t>
            </a:r>
            <a:r>
              <a:rPr b="1" i="1" lang="en-US" sz="1800" spc="-1" strike="noStrike">
                <a:solidFill>
                  <a:srgbClr val="003366"/>
                </a:solidFill>
                <a:latin typeface="Trebuchet MS"/>
              </a:rPr>
              <a:t>adozione</a:t>
            </a:r>
            <a:r>
              <a:rPr b="0" i="1" lang="en-US" sz="1800" spc="-1" strike="noStrike">
                <a:solidFill>
                  <a:srgbClr val="003366"/>
                </a:solidFill>
                <a:latin typeface="Trebuchet MS"/>
              </a:rPr>
              <a:t> D.G.R. 04.08.2009 n. 53-11975</a:t>
            </a:r>
            <a:r>
              <a:rPr b="0" lang="en-US" sz="1800" spc="-1" strike="noStrike">
                <a:solidFill>
                  <a:srgbClr val="003366"/>
                </a:solidFill>
                <a:latin typeface="Trebuchet MS"/>
              </a:rPr>
              <a:t>), al momento </a:t>
            </a:r>
            <a:r>
              <a:rPr b="1" lang="en-US" sz="1800" spc="-1" strike="noStrike">
                <a:solidFill>
                  <a:srgbClr val="003366"/>
                </a:solidFill>
                <a:latin typeface="Trebuchet MS"/>
              </a:rPr>
              <a:t>non produce</a:t>
            </a:r>
            <a:r>
              <a:rPr b="0" lang="en-US" sz="1800" spc="-1" strike="noStrike">
                <a:solidFill>
                  <a:srgbClr val="003366"/>
                </a:solidFill>
                <a:latin typeface="Trebuchet MS"/>
              </a:rPr>
              <a:t> gli effetti per le finalità del suddetto com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-42840" y="260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Il procedimento semplificativo di autorizzazione paesaggistica per interventi di lieve entità (14/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447840" y="1227240"/>
            <a:ext cx="81565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(art. 4 c. 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Decorsi inutilmente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i termini di cui all'art. 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3366"/>
              </a:buClr>
              <a:buFont typeface="Trebuchet MS"/>
              <a:buChar char="-"/>
              <a:tabLst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60  giorni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per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conclusione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del procedimento autorizzatorio semplificato con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un provvedimento espres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3366"/>
              </a:buClr>
              <a:buFont typeface="Trebuchet MS"/>
              <a:buChar char="-"/>
              <a:tabLst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30 giorni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per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accertamenti e valutazioni istruttorie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, con adozione del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provvedimento negativo di conclusione anticipata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del procedimento di cui all'art. 4 c. 2 (in caso di non conformità dell'intervento progettato alla disciplina urbanistica ed ediliz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-42840" y="260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Il procedimento semplificativo di autorizzazione paesaggistica per interventi di lieve entità (15.1/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3"/>
          <p:cNvSpPr/>
          <p:nvPr/>
        </p:nvSpPr>
        <p:spPr>
          <a:xfrm>
            <a:off x="324000" y="1227240"/>
            <a:ext cx="8424720" cy="50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senza che l'amministrazione competente al rilascio dell'autorizzazione o la soprintendenza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abbia comunicato la propria determinazione conclusiva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sull'istanza presentata, si applicano gli artt. 2 c. 8 e 2-bis L. 241/1990, in materia di conclusione del procedimento e conseguenze per il ritardo dell’amministrazio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rebuchet MS"/>
              </a:rPr>
              <a:t>(art. 2 c. 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rebuchet MS"/>
              </a:rPr>
              <a:t>decorsi i termini per la conclusione del procedimento, il ricorso avverso il silenzio dell’amministrazione, può essere proposto anche senza necessità di diffida all’amministrazione inadempiente, fintanto che perdura l’inadempimento e comunque non oltre un anno dalla scadenza dei termini. Il giudice amministrativo può conoscere della fondatezza dell’ist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-42840" y="260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Il procedimento semplificativo di autorizzazione paesaggistica per interventi di lieve entità (15.2/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3"/>
          <p:cNvSpPr/>
          <p:nvPr/>
        </p:nvSpPr>
        <p:spPr>
          <a:xfrm>
            <a:off x="447840" y="1052640"/>
            <a:ext cx="815652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rebuchet MS"/>
              </a:rPr>
              <a:t>(art. 2-b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3366"/>
              </a:buClr>
              <a:buFont typeface="Trebuchet MS"/>
              <a:buChar char="-"/>
              <a:tabLst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Trebuchet MS"/>
              </a:rPr>
              <a:t>le pubbliche amministrazioni sono tenuti al risarcimento del danno ingiusto cagionato in conseguenza dell’inosservanza dolosa o colposa del termine di conclusione del proced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3366"/>
              </a:buClr>
              <a:buFont typeface="Trebuchet MS"/>
              <a:buChar char="-"/>
              <a:tabLst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Trebuchet MS"/>
              </a:rPr>
              <a:t>le controversie relative all’applicazione del presente articolo sono attribuite alla giurisdizione esclusiva del giudice amministrativo. Il diritto al risarcimento del danno si prescrive in cinque an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3366"/>
              </a:buClr>
              <a:buFont typeface="Trebuchet MS"/>
              <a:buChar char="-"/>
              <a:tabLst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rebuchet MS"/>
              </a:rPr>
              <a:t>Inolt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rebuchet MS"/>
              </a:rPr>
              <a:t>(art. 2 c. 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rebuchet MS"/>
              </a:rPr>
              <a:t>la mancata emanazione del provvedimento nei termini costituisce elemento di valutazione della responsabilità dirigenz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-42840" y="260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Il procedimento semplificativo di autorizzazione paesaggistica per interventi di lieve entità (15.3/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3"/>
          <p:cNvSpPr/>
          <p:nvPr/>
        </p:nvSpPr>
        <p:spPr>
          <a:xfrm>
            <a:off x="250920" y="1563840"/>
            <a:ext cx="8569080" cy="15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(art. 4 c. 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L'autorizzazione paesaggistica semplificata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e' immediatamente efficace ed e' valida 5 an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-42840" y="260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Il procedimento semplificativo di autorizzazione paesaggistica per interventi di lieve entità (16/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468360" y="1341360"/>
            <a:ext cx="81565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(art. 2 cc. 1 e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L'istanza e' corredata da una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relazione paesaggistica semplificata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, che costituisce per l'amministrazione competente la base di riferimento essenziale per le valutazioni preordinate alla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verifica della compatibilità paesaggistica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, redatta secondo il modello di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scheda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precompilata, con foto modellazione manuale, di cui al D.P.C.M. 12.12.2005, da un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tecnico abilit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-42840" y="260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Il procedimento semplificativo di autorizzazione paesaggistica per interventi di lieve entità (2.1/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447840" y="1341360"/>
            <a:ext cx="81565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Nella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scheda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50000"/>
              </a:lnSpc>
              <a:buClr>
                <a:srgbClr val="003366"/>
              </a:buClr>
              <a:buFont typeface="Trebuchet MS"/>
              <a:buAutoNum type="arabicPeriod"/>
              <a:tabLst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sono indicate le fonti normative o provvedimentali della disciplina  paesaggist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50000"/>
              </a:lnSpc>
              <a:buClr>
                <a:srgbClr val="003366"/>
              </a:buClr>
              <a:buFont typeface="Trebuchet MS"/>
              <a:buAutoNum type="arabicPeriod"/>
              <a:tabLst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è descritto lo stato attuale dell'area interessata dall'interv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50000"/>
              </a:lnSpc>
              <a:buClr>
                <a:srgbClr val="003366"/>
              </a:buClr>
              <a:buFont typeface="Trebuchet MS"/>
              <a:buAutoNum type="arabicPeriod"/>
              <a:tabLst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è attestata la conformità del progetto alle specifiche prescrizioni d'uso dei beni paesaggistici, se esistenti, 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ovvero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 documentata la compatibilità con i valori paesaggistic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50000"/>
              </a:lnSpc>
              <a:buClr>
                <a:srgbClr val="003366"/>
              </a:buClr>
              <a:buFont typeface="Trebuchet MS"/>
              <a:buAutoNum type="arabicPeriod"/>
              <a:tabLst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sono indicate le eventuali misure di inserimento paesaggistico previste (in scheda: “mitigazione dell’impatto dell’intervento”)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-42840" y="260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Il procedimento semplificativo di autorizzazione paesaggistica per interventi di lieve entità (2.2/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468360" y="1341360"/>
            <a:ext cx="81565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Il tecnico abilitato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attesta altresì la conformità 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del progetto alla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disciplina urbanistica ed edilizia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Laddove l'autorità preposta al rilascio dell'autorizzazione paesaggistica non coincida con quella competente in materia urbanistica ed edilizia (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interventi in capo alla Regione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, ai sensi L.R. 32/2008 art. 3 c. 1), l'istanza e' corredata dall'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attestazione del comune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territorialmente competente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di conformità dell'intervento alle prescrizioni urbanistiche ed edilizie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o, in caso di intervento soggetto a D.I.A., dalle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asseverazioni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di cui all'articolo 23 T.U.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-42840" y="260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Il procedimento semplificativo di autorizzazione paesaggistica per interventi di lieve entità (2.3/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144200" y="1992240"/>
            <a:ext cx="3895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00560" y="19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61160" y="1989000"/>
            <a:ext cx="4366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166240" y="1989000"/>
            <a:ext cx="4366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3"/>
          <p:cNvSpPr/>
          <p:nvPr/>
        </p:nvSpPr>
        <p:spPr>
          <a:xfrm>
            <a:off x="447840" y="1341360"/>
            <a:ext cx="81565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(art. 2 c.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La presentazione della domanda di autorizzazione e la trasmissione dei documenti a corredo e' effettuata, ove possibile, in via telematica. Ove l'istanza paesaggistica sia riferita ad interventi per i quali si applicano i procedimenti di cui all'art. 38 c. 3 L. 133/2008 (“impresa in un giorno”), la presentazione della domanda e della relativa documentazione avviene per il tramite dello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Sportello unico per le attività produttive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, se istituito 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-42840" y="260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Il procedimento semplificativo di autorizzazione paesaggistica per interventi di lieve entità (3/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447840" y="1341360"/>
            <a:ext cx="8156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(art. 3 c.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Il procedimento autorizzatorio semplificato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si conclude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con un provvedimento espresso entro il termine di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60 giorni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dal ricevimento della doma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-42840" y="260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Il procedimento semplificativo di autorizzazione paesaggistica per interventi di lieve entità (4/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"/>
          <p:cNvSpPr/>
          <p:nvPr/>
        </p:nvSpPr>
        <p:spPr>
          <a:xfrm>
            <a:off x="250920" y="1052640"/>
            <a:ext cx="8497800" cy="51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(art. 3 c.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rebuchet MS"/>
              </a:rPr>
              <a:t>L'amministrazione competente al rilascio dell'autorizzazione, entro </a:t>
            </a:r>
            <a:r>
              <a:rPr b="1" lang="en-US" sz="1800" spc="-1" strike="noStrike">
                <a:solidFill>
                  <a:srgbClr val="003366"/>
                </a:solidFill>
                <a:latin typeface="Trebuchet MS"/>
              </a:rPr>
              <a:t>30 giorni</a:t>
            </a:r>
            <a:r>
              <a:rPr b="0" lang="en-US" sz="1800" spc="-1" strike="noStrike">
                <a:solidFill>
                  <a:srgbClr val="003366"/>
                </a:solidFill>
                <a:latin typeface="Trebuchet MS"/>
              </a:rPr>
              <a:t> dal ricevimento della domanda, corredata della documentazione prescritta:</a:t>
            </a:r>
            <a:r>
              <a:rPr b="0" lang="en-US" sz="1600" spc="-1" strike="noStrike">
                <a:solidFill>
                  <a:srgbClr val="003366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rebuchet MS"/>
              </a:rPr>
              <a:t>- Effettua</a:t>
            </a:r>
            <a:r>
              <a:rPr b="0" lang="en-US" sz="1800" spc="-1" strike="noStrike">
                <a:solidFill>
                  <a:srgbClr val="003366"/>
                </a:solidFill>
                <a:latin typeface="Trebuchet MS"/>
              </a:rPr>
              <a:t> gli accertamenti e le valutazioni istruttor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rebuchet MS"/>
              </a:rPr>
              <a:t>(art. 4 c. 1)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3366"/>
              </a:buClr>
              <a:buFont typeface="Trebuchet MS"/>
              <a:buAutoNum type="arabicPeriod"/>
              <a:tabLst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rebuchet MS"/>
              </a:rPr>
              <a:t>verifica</a:t>
            </a:r>
            <a:r>
              <a:rPr b="0" lang="en-US" sz="1800" spc="-1" strike="noStrike">
                <a:solidFill>
                  <a:srgbClr val="003366"/>
                </a:solidFill>
                <a:latin typeface="Trebuchet MS"/>
              </a:rPr>
              <a:t> se l'intervento progettato </a:t>
            </a:r>
            <a:r>
              <a:rPr b="1" lang="en-US" sz="1800" spc="-1" strike="noStrike">
                <a:solidFill>
                  <a:srgbClr val="003366"/>
                </a:solidFill>
                <a:latin typeface="Trebuchet MS"/>
              </a:rPr>
              <a:t>non sia esonerato </a:t>
            </a:r>
            <a:r>
              <a:rPr b="0" lang="en-US" sz="1800" spc="-1" strike="noStrike">
                <a:solidFill>
                  <a:srgbClr val="003366"/>
                </a:solidFill>
                <a:latin typeface="Trebuchet MS"/>
              </a:rPr>
              <a:t>dall'autorizzazione  paesaggistica, ai sensi dell'art. 149 del Codice, oppure se </a:t>
            </a:r>
            <a:r>
              <a:rPr b="1" lang="en-US" sz="1800" spc="-1" strike="noStrike">
                <a:solidFill>
                  <a:srgbClr val="003366"/>
                </a:solidFill>
                <a:latin typeface="Trebuchet MS"/>
              </a:rPr>
              <a:t>sia assoggettato al regime ordinario</a:t>
            </a:r>
            <a:r>
              <a:rPr b="0" lang="en-US" sz="1800" spc="-1" strike="noStrike">
                <a:solidFill>
                  <a:srgbClr val="003366"/>
                </a:solidFill>
                <a:latin typeface="Trebuchet MS"/>
              </a:rPr>
              <a:t>, di cui all'articolo 1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Trebuchet MS"/>
              </a:rPr>
              <a:t>in tali casi, rispettivamente, </a:t>
            </a:r>
            <a:r>
              <a:rPr b="1" lang="en-US" sz="1800" spc="-1" strike="noStrike">
                <a:solidFill>
                  <a:srgbClr val="003366"/>
                </a:solidFill>
                <a:latin typeface="Trebuchet MS"/>
              </a:rPr>
              <a:t>comunica</a:t>
            </a:r>
            <a:r>
              <a:rPr b="0" lang="en-US" sz="1800" spc="-1" strike="noStrike">
                <a:solidFill>
                  <a:srgbClr val="003366"/>
                </a:solidFill>
                <a:latin typeface="Trebuchet MS"/>
              </a:rPr>
              <a:t> al richiedente che l'intervento non e' soggetto ad autorizzazione o </a:t>
            </a:r>
            <a:r>
              <a:rPr b="1" lang="en-US" sz="1800" spc="-1" strike="noStrike">
                <a:solidFill>
                  <a:srgbClr val="003366"/>
                </a:solidFill>
                <a:latin typeface="Trebuchet MS"/>
              </a:rPr>
              <a:t>richiede</a:t>
            </a:r>
            <a:r>
              <a:rPr b="0" lang="en-US" sz="1800" spc="-1" strike="noStrike">
                <a:solidFill>
                  <a:srgbClr val="003366"/>
                </a:solidFill>
                <a:latin typeface="Trebuchet MS"/>
              </a:rPr>
              <a:t> le necessarie integrazioni ai fini del rilascio dell'autorizzazione ordin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0" y="2300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Il procedimento semplificativo di autorizzazione paesaggistica per interventi di lieve entità (5.1/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3"/>
          <p:cNvSpPr/>
          <p:nvPr/>
        </p:nvSpPr>
        <p:spPr>
          <a:xfrm>
            <a:off x="324000" y="1341360"/>
            <a:ext cx="849600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rebuchet MS"/>
              </a:rPr>
              <a:t>2. 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ove l'intervento richiesto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sia assoggettato ad autorizzazione semplificata, comunica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all'interessato l'avvio del procedimento e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richiede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, ove occorrano,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un'unica volta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, i documenti e i chiarimenti indispensabili, che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sono presentati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o inviati in via telematica entro il termine di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15 giorni 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dal ricevimento della richie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il procedimento resta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sospeso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fino alla ricezione della documentazione  integrativa richie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decorso inutilmente il suddetto termine, l'amministrazione </a:t>
            </a:r>
            <a:r>
              <a:rPr b="1" lang="en-US" sz="2000" spc="-1" strike="noStrike">
                <a:solidFill>
                  <a:srgbClr val="003366"/>
                </a:solidFill>
                <a:latin typeface="Trebuchet MS"/>
              </a:rPr>
              <a:t>conclude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comunque il procedi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-42840" y="260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Il procedimento semplificativo di autorizzazione paesaggistica per interventi di lieve entità (5.2/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63320" y="5516640"/>
            <a:ext cx="4579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16:13:17Z</dcterms:created>
  <dc:creator>d6002</dc:creator>
  <dc:description/>
  <dc:language>en-US</dc:language>
  <cp:lastModifiedBy>buttigliera</cp:lastModifiedBy>
  <dcterms:modified xsi:type="dcterms:W3CDTF">2010-09-22T12:56:05Z</dcterms:modified>
  <cp:revision>237</cp:revision>
  <dc:subject/>
  <dc:title>Diapositiva 1</dc:title>
</cp:coreProperties>
</file>